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3040" y="812880"/>
            <a:ext cx="53132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102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4277880" y="10155240"/>
            <a:ext cx="3243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53995-037B-4F40-BE35-09EE87BED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4DD39-737D-4430-845F-1B8B7B9DD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8AFC0-BD58-4BEA-AE28-7017BBCBDC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1AF9E-96FE-41BF-99DC-7D33D93D38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C9E98-58B9-4691-B676-EC75AD0D8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E14FC-2D25-4855-8140-C59D3513B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240E7-C227-461E-9234-CA1E9CD7A4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1726-894B-4B94-9836-EF6377C0E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016CF-6E3E-4C56-8D38-A24BCC1EC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27F9A-6FEB-4084-97E1-CD67E34A1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6442-2426-49FF-B7D4-84B248D40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D202C-27A4-4DA8-AAB7-4CED65733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323A6-A7D7-4CDB-A2AB-DE0FB37D7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21B51-0E11-4669-B97C-7E17BA792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17F28-10B7-42B6-9FEC-047D5BD26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0814-7A49-4272-AAA5-4CAA218B4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DD6C2-9A7D-4827-A2BE-DB81960A7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C1C56-2F1A-4C03-92E0-FC3E477376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5235A-F87C-4A36-BCB1-4F24CD704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5CEE2-3F29-4A9A-A253-1FAC0F12D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1580F-7974-440E-B2DB-740E5122C2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32EE-EFBE-4B5C-8986-BAB6B0D3A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0BBA8-8EAE-4351-95D6-7E4BD28468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81F66-8FEF-4E2A-96DB-5B7105BA1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B8900-6192-4262-8E0D-3DA86F500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32B2A-03BB-4752-A9CB-A709AB690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544B0-D973-4390-826B-523D85854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8F4B5-48BE-42A4-9DC4-724655505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59DA-F040-4B11-92C2-9D9925FCC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EE792-BBD1-4D04-9E08-1B111F940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BBAB4-77C5-4E83-A6B5-D823EFE914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E4E3-EFA0-45DE-AA64-A40E489AA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DFAE9-BFCF-4ACE-A67A-37E61EAA1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8555F-AF8E-4830-8E45-E66391074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91637-76B4-49FB-ABEB-2A8E968C6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69B98-44AD-443E-9B14-A40405E0E0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F250B-3F2E-4859-8DC4-B1516C9C3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37A24-5983-4345-BA01-EF44AF713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BCF6A-9711-41BE-A50B-1BB556E871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875E-F915-4CCE-B03D-1CE8BE355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39E80-9EE7-4A6B-8F64-453E25357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8E1A5-17F5-4554-870A-DA9058225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F0559-211D-48EA-9579-F461767DC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3CC15-EAC9-4D09-9A94-BFF0E8F739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04F7B-09D9-454E-AF98-CC31F3B7E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0C2A7-6B07-48D7-8BC9-F37A3CFE9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78240" y="10155240"/>
            <a:ext cx="3259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4434-5BB5-464B-9869-698ED95A5E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06640" y="812880"/>
            <a:ext cx="53337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6B56A-AB9F-4113-BD7D-81693B053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F13F-3894-4C53-AF90-0042A44B5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0EEA-8CD6-4907-AE53-C878AF1FA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7AB7-85F7-4DA8-8146-E050ED8F40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28316-82D7-4347-80F5-F7981741E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BF61E-57E0-47D5-A87E-AB1A9C944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24C94-8BED-4727-80D7-76F8A0AF4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BD79C-EEA1-4A53-AA10-F57D23FC57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A26D4-F637-4A69-B7D6-9028B2475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94C80-33DC-4453-A2A8-74BE60E6C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168E2-5285-4DCD-AD09-F66EA57F7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AEE4A-1212-4E21-9DA5-6C503B485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21272-2E33-4F71-9AE8-6BFDEA675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DE7CA-C9B0-4286-9CD0-71655BD09C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0A3AB-49CF-431B-9A73-FB3E500DC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1D931-8C88-4232-AA76-EB792C38F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FAAE9-0EF6-451A-9431-09B3D0250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CCCA-A163-4380-A82B-0EBFC0FAD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0ABB-3152-40AD-B5B7-5BDF21AD9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5E4FE-B154-47A5-934B-35E9C5A3A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0839F-6825-48EB-9F60-1166CAA85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42C10-4566-430B-91FC-94E16AD78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0966A-3B97-42DC-B5A0-276DA39D6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0541C-1B8C-4D7B-9269-8DB6E7A91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479B0-A492-43CE-8B26-E7A8DD929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AA6AC-4153-45AC-944E-A18EE312D3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D4E2-CB46-459B-B927-72C22E06B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B8E85-7439-4734-87F5-8EB3823DB2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214F-3812-4DB6-9675-9CAE0F081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0B7A-E0F8-4855-9158-49980A9EA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FCAD-95F8-41FB-A9D1-F89FB3A78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6B5A5-12CA-4596-BE1E-F4C73E738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1CD50-2944-4002-95E8-FA7961A2B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DD186-5398-42EA-8532-28FF274E9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CEF7-EF4B-46CD-960A-197136093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B6D3C-4F62-4260-AD0C-90C03DEA6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CC01-1096-4270-A763-FF8E6E273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0C9C-DE93-4D52-864F-6296693BA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9B1B-B4E5-428A-8F88-6CCBBFCE1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AA1DE-50F8-41B3-B35B-518D3DFC9A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664-DD4D-4261-82C1-347C1BE68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2086-A266-44B5-906A-649F0227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A3A-05F7-458C-9F88-55880F00C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19BC-7F05-48B5-9322-C67D53A27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C798-BC0A-4A1B-8973-7E5565B36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9E1C-7652-4CCB-8877-59D1E5AE5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973F-A73E-4E3D-AB19-FCC976802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E5F7-C4A6-47FB-AB69-5B0E81F60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07FC-0452-47DE-97FC-385F793056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A505-27B9-4144-A050-DB7AA3ED33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5B6C-F030-411A-B06F-EACB708FF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9C6F-BF59-41E0-A44F-C3C8BEE0F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EA60-8213-4033-A082-6B1A6958E1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86F2-71E6-4CFE-8B36-093194513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38B9-7339-4FDF-9254-D826007C5A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8566-DF7C-4848-9B97-E4F1BC667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4D5F-EB52-4C2D-BF41-B9E6162633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10E-D58C-466C-985A-56B5249AA5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968-4B74-4C6F-8C78-BC60A07E8E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0B8-5598-489A-8E35-0B0F473CAC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5A6-B839-4FEB-9156-15B485AA38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160-2679-4A9E-9F76-1997C9A55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2FF0-0480-444E-BF22-828336D31E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D19-9D53-49D8-A290-273E13454B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7C1-F721-407B-A627-EABA16632E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58F-7707-4184-A997-3D33429B7A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CD9-2E79-4D77-A2F8-C92B993FD7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7E2-43A7-4E1E-9335-39F38B3361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4A7-0C2C-444E-8B2E-4739CEB9C8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415-673C-4348-90B4-38135C1A7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CED8-2846-4725-9D45-DAC3E3384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AC75-FF3E-499B-9891-341402253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1871-09F7-4D97-89E7-46B780B9F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7FBD-08C9-4AAC-A6B3-5AFD2F4F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CB92-81EE-4B54-9FDE-F29FC247F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847E-3308-451E-B175-0B3EA4F90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6E28A-EF55-4F55-83DC-88A7CBF5EBA4}" type="slidenum">
              <a:rPr b="0" lang="en-GB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8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5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45E5866-E947-4DA7-A582-9555A88B6DCE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10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CBA5E68-392A-49B0-AC83-0E364A0D530A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11520" y="636480"/>
            <a:ext cx="25844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76440" y="2693880"/>
            <a:ext cx="8667720" cy="4248360"/>
            <a:chOff x="676440" y="2693880"/>
            <a:chExt cx="8667720" cy="4248360"/>
          </a:xfrm>
        </p:grpSpPr>
        <p:sp>
          <p:nvSpPr>
            <p:cNvPr id="182" name=""/>
            <p:cNvSpPr/>
            <p:nvPr/>
          </p:nvSpPr>
          <p:spPr>
            <a:xfrm>
              <a:off x="676440" y="2693880"/>
              <a:ext cx="866772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8360" y="2208240"/>
            <a:ext cx="92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0360" y="2879640"/>
            <a:ext cx="899964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Plano Nacional de Recursos Hídr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2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Um Pacto pelas Águas d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ffff"/>
                </a:solidFill>
                <a:latin typeface="Calibri"/>
                <a:ea typeface="Arial"/>
              </a:rPr>
              <a:t>Oficina Nacional de Consolidação do Processo Participativo da Revisão do PNR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ia Nacional de Recursos Hídricos e Ambiente Urb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RHU/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rasília, novembro de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04640" y="1495440"/>
          <a:ext cx="9360000" cy="5746680"/>
        </p:xfrm>
        <a:graphic>
          <a:graphicData uri="http://schemas.openxmlformats.org/drawingml/2006/table">
            <a:tbl>
              <a:tblPr/>
              <a:tblGrid>
                <a:gridCol w="4710960"/>
                <a:gridCol w="4649040"/>
              </a:tblGrid>
              <a:tr h="5746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or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Oficinas ocorreram de forma participativa: contemplaram a posição e discussão dos diferentes entes envolvido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alto grau de apropriação do Plano Nacional em relação ao anteriormente existente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reforço da Região Hidrográfica como um território da GIRH, parcialmente apropriada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De maneira geral, as participações apontaram prioridades regionai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ções repetidas nos Subprogramas sugerem revisão da estrutura lógica do Plano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r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Entendimento ainda frágil da escala/abrangência do PNR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Falta de entendimento dos participantes para diferenciar Ação de Diretr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alta de entendimento das relações de causalidade entre as ações e do tempo necessário para a realização de cada Ação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s propostas para a revisão da estrutura do PNRH, em sua maioria, são indiretas pois este não foi considerado item prioritário da metodologia das Oficinas Regionais e o tempo para esta atividade seria insuficiente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0000" y="1589040"/>
          <a:ext cx="9607320" cy="5721480"/>
        </p:xfrm>
        <a:graphic>
          <a:graphicData uri="http://schemas.openxmlformats.org/drawingml/2006/table">
            <a:tbl>
              <a:tblPr/>
              <a:tblGrid>
                <a:gridCol w="4835520"/>
                <a:gridCol w="4771800"/>
              </a:tblGrid>
              <a:tr h="5721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afios/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alizar uma série de atividades de filtragem e complementação para sistematizar os resultados das Oficinas Regionais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eparar Ação de Diretriz nos quadros resultantes das Oficinas Regionais, relacionando as diretrizes com as ações às quais estejam vinculad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relações de causalidade entre as ações e agrupar diferentes Ações propostas n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efinir os responsáveis e parceiros para a execução de cada uma das ações proposta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e detalhar as ações priorizadas nas Oficinas Regionais em Resumos Executivos, dando ênfase na elaboração das consideradas mais relevantes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is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Participação pouco representativa na Oficina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ão obtenção de apoio institucional/parceria da CT – PNRH para o encaminhamento dos produtos da revisão ao CN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42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Proposta Metodológica da 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800360"/>
            <a:ext cx="94312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consolidar o processo participativo de Revisão do PNRH 2025 desenvolvido com oficinas de trabalho (Nacionais e Regionais) ocorridas no ano de 2010, dando enfoque no planejamento da implementação do PNRH para os anos de</a:t>
            </a:r>
            <a:r>
              <a:rPr b="0" i="1" lang="pt-BR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2011-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apresentar os resultados da sistematização dos produtos das Oficinas Regionais e Nacionais de Revisão do PNRH 202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bater e qualificar o detalhamento de ações prioritárias que envolvam diferentes entes do SINGREH para sua implementa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apresentar os encaminhamentos do processo de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 -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60360" y="1800360"/>
          <a:ext cx="9358200" cy="5580000"/>
        </p:xfrm>
        <a:graphic>
          <a:graphicData uri="http://schemas.openxmlformats.org/drawingml/2006/table">
            <a:tbl>
              <a:tblPr/>
              <a:tblGrid>
                <a:gridCol w="4672080"/>
                <a:gridCol w="4686120"/>
              </a:tblGrid>
              <a:tr h="43488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bjetivo especí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sultado espe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58436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. apresentar os resultados da sistematização dos produtos das Oficinas Regionais e Nacionais de Revisão do PNRH 2025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conhecimento dos resultados das Oficinas (Regionais e Nacionais) ocorridas em 2010, principalmente no que se refere ao planejamento de ações entre 2011-2014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98432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bater e qualificar o detalhamento de ações prioritárias que envolvam diferentes entes do SINGREH para sua implementação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talhamento executivo das principais ações apontadas nas Oficinas participativ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7644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apresentar os encaminhamentos do processo de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conhecimento dos próximos passos para a finalização da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1800360"/>
            <a:ext cx="943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manda elaboração prévia à Oficina Nacional das seguintes informações organizada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1) Matrizes que sintetizam as ações e encaminhamentos das Oficinas participativ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2) Consolidação, por meio da aplicação de critérios, de um conjunto de ações prioritárias que tiverem sido propostas nas Oficinas Regionais e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3) Detalhamento executivo das ações prioritári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4) Próximos passos  da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dutos prév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 Sistematização e análise dos resultados das Oficinas Regionais e Nacionais do PNRH em termos de ações 2011-20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Tratamento e Sistematização dos dados resultantes das Ofic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finição das ações a serem detalhadas para a Oficina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 Detalhamento executivo de  ações a serem debatidas pelos grupos de trabalho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1. Apresentação da síntese do processo participativo de Revisão do PNR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3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2. Grupos de Trabalho para o debate sobre o detalhamento executivo de  açõ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4 e 25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3. Apresentação, em plenária do XII ENCOB, dos resultados d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5/11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s da Oficina 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ritérios às ações hierarquiz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ferenci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relacionando, quando for o caso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às quais estejam vinculad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Identifica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que não são d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 sim dos Planos Estaduais ou de Baci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grup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semelha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de texto ou que pretendem atingir a mesma finalidade) e unificá-l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relações de causalidade entre as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ropostas e agrupar, quando possível, diferent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plementa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r a região à qual a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stá vincul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esclarecendo a área e sua escala de abrangênc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. Agrupa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am ser estabelecidas para a totalidade das Regiões Hidrográficas, e ações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Ao separar ações de caráter regionalizado e  de âmbito nacional é relevante buscar constituir “tipologias” de prioridades regionai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. Destacar as ações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i. Destacar, ainda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is vot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m termos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orcentuais do total dos vot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cada  Ofic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18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xtraídas ações e diretrizes relevantes dos debates realizados que sejam coerentes com 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transcrições, documentos técnicos e apresentaçõ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A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em ser estabelecidas para a totalidade das Regiões Hidrográficas,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Os quadros apresentarão as ações detalhadas para os Trabalhos dos Grupos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ve-se escol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ções que envolvem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Integrar ações de ordem regional (tipologias) e ações de ordem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*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nsidera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diretriz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como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apontamentos que visam orientar a implementação da ação, garantindo a qualidade esperad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apontando quatro categorias (matriz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Objetiv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Meta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que contenham os produtos resultantes da Ação e a data de entrega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Diretrizes para a implementação das açõe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diretrizes não são obrigatórias – valorização das colocações das Ofici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Executores e parceiros responsávei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ela implementação da ação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2879640"/>
            <a:ext cx="943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triz lógica modelo de agrupemento de ações para os Grupos de Trabal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19200" y="4176720"/>
          <a:ext cx="8459280" cy="2518920"/>
        </p:xfrm>
        <a:graphic>
          <a:graphicData uri="http://schemas.openxmlformats.org/drawingml/2006/table">
            <a:tbl>
              <a:tblPr/>
              <a:tblGrid>
                <a:gridCol w="2217960"/>
                <a:gridCol w="1235160"/>
                <a:gridCol w="1464120"/>
                <a:gridCol w="1640160"/>
                <a:gridCol w="1901880"/>
              </a:tblGrid>
              <a:tr h="843120">
                <a:tc gridSpan="5"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UPO DE TRABALHO (ex. Eixo Temátic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580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pro-g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retriz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icha “Resumo Executivo” de cada ação com as categor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Nome da ação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subprograma e programa do PNRH relacion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Objetivo do Program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 apontando o objetivo do programa ao qual a ação está vincul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Objetivo da 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Metas esper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apontando os resultados parciais quantificados e vinculá-los à data de al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. Responsáveis e parceiros pela execuçã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. Diretrizes para implementar 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1800360"/>
            <a:ext cx="94312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Resumo Executivo Model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Constituir uma Rede de Experiências de Educação, Comunicação e Mobilização Social em GIRH. </a:t>
            </a: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Programa IV, subprogramas 2 e 3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o Programa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não possui objetivo do Program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a ação: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Viabilizar o funcionamento continuado de uma rede de troca de experiências em comunicação, educação e mobilização social em GIRH para diferentes entes do SINGREH. 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Me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A - Experiências e atores mapeadas até o final de 2011 (02/2011-12/2011).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B - Plataforma virtual pronta até o meio de 2012 (10/2011-07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C - Moderadores de rede formados e atuando até o final de 2012 (01/2012-09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Diretrizes estratégicas: (se houv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Garantir que a construção da ferramenta e da formação em moderação de forma participativ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ter enfoque educomunicativo, onde os envolvidos sejam participantes do desenvolvimento da ferramenta e contribuam com a definição da estratégia de formação e de atuação dos moderadores da Rede. Utilizar moderadores de instituições estabelecidas no Sistema e com perspectiva de continuidade na função para o critério de escolha e participação da formação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stituir a rede valorizando a perspectiva de Região Hidrográfica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Responsáveis pela Execução: SRHU (A, B e C) e ANA (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Parceiros: OGs, DEA, FNCBH e instituições com experiências mapeadas. (A, 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tegorias de representaçã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6 representantes (dois por segmento) de cada Estad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Conselheiros do Conselho Nacional de Recursos Hídricos (C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24 representantes do Fórum Nacional de Comitês de Baci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v. Representantes da Câmara Técnica do Plano Nacional de Recursos Hídricos (CTP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v. Representantes de Comitês de Bacia Federai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5440" y="923760"/>
            <a:ext cx="931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imativa de participante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60360" y="2519280"/>
          <a:ext cx="9180360" cy="355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2519280"/>
                    <a:ext cx="91803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3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ntextualização da Oficina Nacional e apresentação da síntese do processo participativo de Revisão do PN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Mesa de a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A Oficina Nacional no contexto da Revisão do PNRH (SRHU/M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programação da Oficina (SRHU/M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Interva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Síntese das Oficinas Particip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os próximos passos da Revis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1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4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– trabalhos em grup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Grupos de Trabalho - divisão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s elaborações técnicas por eixo temá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Debates nos grupos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2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023840" y="2401920"/>
            <a:ext cx="8107560" cy="4516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Fas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1800360"/>
            <a:ext cx="943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6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em plenária:  Apontamentos para a construção de Estratégia Regional de Educação Ambiental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municação e Mobilização Social para GI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ncerramento Oficial da Oficina Nacional de Consolidação do Processo Participa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8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9720360" cy="4329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5440" y="923760"/>
            <a:ext cx="93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Fluxograma das três fases da revisão do PNR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500040" y="1414440"/>
            <a:ext cx="9075600" cy="1077840"/>
            <a:chOff x="500040" y="1414440"/>
            <a:chExt cx="9075600" cy="107784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500040" y="1414440"/>
              <a:ext cx="90756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00040" y="1414440"/>
              <a:ext cx="907560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6720" y="1351080"/>
            <a:ext cx="9266400" cy="4991040"/>
            <a:chOff x="396720" y="1351080"/>
            <a:chExt cx="9266400" cy="49910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396720" y="1351080"/>
              <a:ext cx="926640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96720" y="1351080"/>
              <a:ext cx="9266400" cy="49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9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00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5652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Eventos Nacion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38360" y="2060640"/>
            <a:ext cx="8332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6720" y="7794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Foco: aprofundamento de temas</a:t>
            </a:r>
            <a:br>
              <a:rPr sz="36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de interesse para a GIR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4440" y="2225520"/>
            <a:ext cx="9237600" cy="4953240"/>
            <a:chOff x="244440" y="2225520"/>
            <a:chExt cx="9237600" cy="495324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244440" y="2225520"/>
              <a:ext cx="923760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44440" y="2225520"/>
              <a:ext cx="92376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Vertent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208240"/>
            <a:ext cx="921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teve como objetivo debater e aprofundar sobre temas importantes da atualidade para a gestão de recursos hídr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s principais eventos relacion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MT"/>
              </a:rPr>
              <a:t> são o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Seminários Diálogos com a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, com enfoque nas 12 Regiões Hidrográficas, e tem como objetivo geral promover a priorização regional das ações do PNRH para o período 2011-2014, harmonizadas entre os Estados pertencentes  a cada Região Hidrográf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31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17840"/>
            <a:ext cx="100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Figura 3 – Percentuais de ações propostas por Eixo Temático nas Regiões Hidrográf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001000" cy="395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2471760"/>
            <a:ext cx="100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Análise em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920" y="1676520"/>
            <a:ext cx="9524880" cy="5715000"/>
            <a:chOff x="304920" y="1676520"/>
            <a:chExt cx="9524880" cy="5715000"/>
          </a:xfrm>
        </p:grpSpPr>
        <p:grpSp>
          <p:nvGrpSpPr>
            <p:cNvPr id="324" name=""/>
            <p:cNvGrpSpPr/>
            <p:nvPr/>
          </p:nvGrpSpPr>
          <p:grpSpPr>
            <a:xfrm>
              <a:off x="304920" y="1676520"/>
              <a:ext cx="4768560" cy="2923920"/>
              <a:chOff x="304920" y="1676520"/>
              <a:chExt cx="4768560" cy="2923920"/>
            </a:xfrm>
          </p:grpSpPr>
          <p:sp>
            <p:nvSpPr>
              <p:cNvPr id="325" name=""/>
              <p:cNvSpPr/>
              <p:nvPr/>
            </p:nvSpPr>
            <p:spPr>
              <a:xfrm>
                <a:off x="412920" y="1676520"/>
                <a:ext cx="45529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  <a:ea typeface="Calibri"/>
                  </a:rPr>
                  <a:t>Pontos Fort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ffffff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ficinas ocorreram de forma participativa: contemplaram a posição e discussão dos diferentes entes envolvido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alto grau de apropriação do Plano Nacional em relação ao anteriormente existente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reforço da Região Hidrográfica como um território da GIRH, parcialmente apropriada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 maneira geral, as participações apontaram prioridades regionai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ções repetidas nos Subprogramas sugerem revisão da estrutura lógica do Plano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1676520"/>
                <a:ext cx="476856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75280" y="1676520"/>
              <a:ext cx="4754520" cy="2923920"/>
              <a:chOff x="5075280" y="1676520"/>
              <a:chExt cx="4754520" cy="2923920"/>
            </a:xfrm>
          </p:grpSpPr>
          <p:sp>
            <p:nvSpPr>
              <p:cNvPr id="328" name=""/>
              <p:cNvSpPr/>
              <p:nvPr/>
            </p:nvSpPr>
            <p:spPr>
              <a:xfrm>
                <a:off x="5183280" y="1676520"/>
                <a:ext cx="45385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ontos Fra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Entendimento ainda frágil da escala/abrangência do PNRH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os participantes para diferenciar Ação de Diretriz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as relações de causalidade entre as ações e do tempo necessário para a realização de cada Ação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As propostas para a revisão da estrutura do PNRH, em sua maioria, são indiretas pois este não foi considerado item prioritário da metodologia das Oficinas Regionais e o tempo para esta atividade seria insuficiente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75280" y="1676520"/>
                <a:ext cx="475452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04920" y="4600440"/>
              <a:ext cx="4768560" cy="2791080"/>
              <a:chOff x="304920" y="4600440"/>
              <a:chExt cx="4768560" cy="2791080"/>
            </a:xfrm>
          </p:grpSpPr>
          <p:sp>
            <p:nvSpPr>
              <p:cNvPr id="331" name=""/>
              <p:cNvSpPr/>
              <p:nvPr/>
            </p:nvSpPr>
            <p:spPr>
              <a:xfrm>
                <a:off x="412920" y="4600440"/>
                <a:ext cx="45529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Desafios/Oportunidad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ealizar uma série de atividades de filtragem e complementação para sistematizar os resultados das Oficinas Regionais: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Separar Ação de Diretriz nos quadros resultantes das Oficinas Regionais, relacionando as diretrizes com as ações às quais estejam vinculadas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relações de causalidade entre as ações e agrupar diferentes Ações propostas n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finir os responsáveis e parceiros para a execução de cada uma das ações proposta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e detalhar as ações priorizadas nas Oficinas Regionais em Resumos Executivos, dando ênfase na elaboração das consideradas mais relevantes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4920" y="4600440"/>
                <a:ext cx="476856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075280" y="4600440"/>
              <a:ext cx="4754520" cy="2791080"/>
              <a:chOff x="5075280" y="4600440"/>
              <a:chExt cx="4754520" cy="2791080"/>
            </a:xfrm>
          </p:grpSpPr>
          <p:sp>
            <p:nvSpPr>
              <p:cNvPr id="334" name=""/>
              <p:cNvSpPr/>
              <p:nvPr/>
            </p:nvSpPr>
            <p:spPr>
              <a:xfrm>
                <a:off x="5183280" y="4600440"/>
                <a:ext cx="45385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is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Participação pouco representativa na Oficina Naciona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Não obtenção de apoio institucional/parceria da CT – PNRH para o encaminhamento dos produtos da revisão ao CNR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75280" y="4600440"/>
                <a:ext cx="475452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343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76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Etapas do Processo Participativo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459160"/>
            <a:ext cx="100807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9372600" cy="334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477120"/>
            <a:ext cx="100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Figura –  Fluxograma das etapas do processo participativo de revisão do PNR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197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30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Breve 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1812960"/>
            <a:ext cx="921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das aproximadament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400 propost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não considerando su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dequação técnic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hierarquizaçã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realiz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5440" y="779400"/>
            <a:ext cx="9313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ficinas Regionais de Revisão do P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90760" y="3060720"/>
            <a:ext cx="697068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00360"/>
            <a:ext cx="92152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Promover a priorização regional para a implementação do PNRH 20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fortalecer a apropriação do Plano Nacional de Recursos Hídricos pelo SINGRE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apontar ações prioritárias para a implementação do PNRH 2011-2014 no âmbito da Região Hidrográf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obter contribuições para a revisão da estrutura do Plano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A</dc:creator>
  <dc:description/>
  <dc:language>en-US</dc:language>
  <cp:lastModifiedBy>Requer Privacidade</cp:lastModifiedBy>
  <cp:lastPrinted>2010-11-10T15:54:02Z</cp:lastPrinted>
  <dcterms:modified xsi:type="dcterms:W3CDTF">2010-11-10T05:41:59Z</dcterms:modified>
  <cp:revision>15</cp:revision>
  <dc:subject/>
  <dc:title>Slide 1</dc:title>
</cp:coreProperties>
</file>